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1A6-37B2-42BA-B31A-3A20453A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335-515C-461D-8558-82DB085F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E3CED-7361-4D2A-B153-0AD86E5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B5AA9-11B6-47F6-9F33-0FBC34E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8D1C7-FDB7-4E59-A80A-9CB10BC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4FBAE-5685-47FB-AF81-F847F20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8251-8DC2-41B5-A4CF-09E5393C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8CD5-AEAD-4E3A-882C-DA96F5A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D89C5-BDBF-4427-AFDB-DCFD2E16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1F926-6FD1-444A-A88E-321BF488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B192D-4031-41CC-B9F9-431D215A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F2CE5-B2F6-4D56-8164-4F992C6D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D40-36E1-4E87-B6B2-087CAC73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28EE1-D432-492C-B402-254C539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B19EA-9D42-452E-808C-6B75443C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91D5B-2A05-4364-B500-6F1143F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D68C2-A2BA-4233-A22E-7F11DD1D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24B89-3716-4CE1-B935-7F062830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F5599-F1A2-4C0F-8213-502DF13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B5822-D5EC-4136-9F31-A0533621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648CB-7AE0-427A-BC84-27A14CC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03448-F7CB-47BE-9EF0-9CDA458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AD225-B382-4066-B5C5-DBB4808F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396-8440-4C24-AA4F-412ED2FF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22AB-FCC7-45A5-BDE2-31FEA82A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5355F-2716-4EE6-A454-651F9C6B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A182D-41CA-41BA-BAFB-7342B114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64C03-9280-494F-8330-17E8AC59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C609F-BFB7-4F15-B3D4-D4E9AA74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448B0-8071-47D0-8FB2-376F4909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3AE60-1CC5-43C9-AA89-98C7F0A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675DC-CCDB-4128-A54C-35542E6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AA237-C5D4-4D2C-B1F5-83FF292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425DA-71A7-4B2A-9410-DBCB789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DDA1-783E-43B1-89FE-807CC29F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71476-5816-4B1B-B727-5658374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7910D-5E0E-422B-8C1C-A43FC36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AE633-414B-40A5-81DB-00C0C51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E288D-97F2-41FB-91F3-B53F7E96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6565-12AF-4D70-9BC6-977725A2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2271C-D335-4564-A169-B814C920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1D7E5-1CE5-4303-90B5-5E0402AB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2FA76-FF63-460D-8BE3-E56E54F4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18789-ED16-4747-903A-16B8F998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9B086-1C0C-409D-9321-9734A04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404C-6994-4AD8-A4D5-8407B119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D807F-9B9B-4303-969E-97D5CE4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F2253-EBFE-4499-A469-6EDC12B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E109F-9588-43B9-9479-78B7738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E4796-440F-40CE-A2B3-C49D3241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86B6E-1072-4DEF-8D6B-EBA74BD5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8C20-20E4-444B-8544-08E1C87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FB62-D95B-4ADB-9068-F1D9EB6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B16-3314-4B7F-9770-EFB98C4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2D98-E340-4892-BB7E-8E6C362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6A0-4D4B-49FB-9030-41C7A4F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923-EE59-4665-A009-8608ED6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1FE-EDA1-4A04-980E-8993DD9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7CD4-35D8-4DCA-B50A-E4940C2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94A5-E83C-422B-BA68-259D082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5E8E-9F23-4F18-AE31-C02DAEAF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EE3C-42A8-4AF7-82CC-75858616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4E55-0D44-4407-B83A-93691096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5F1E-325A-44DD-BA59-C91D3B3A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C4B3-1287-4F94-B097-ACD38911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91C9-87F4-4D28-B869-363A3A0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C0FC-2CD6-4E15-9B6E-C191D221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41B-E56D-440D-80AD-26D7A8F7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F6E9-1ED5-4C6C-BADB-20EA9386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E79C-CFCE-49FF-8E23-1C22438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4AE9-F18E-4394-A1CE-7C9146F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EEA5-3D18-4A33-A02A-E062D96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3B11-29FB-4097-A92A-B948491D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799C-5F47-4EAB-AE84-82591AAA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75CB-54B4-42F5-B251-2F03E0E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176F2-61DA-4A5C-BBEE-FCD7216C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444E-F48C-46BD-899D-763F953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B469-B357-4321-A189-D2310BD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E98-1EF6-4E83-8AE8-7717049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97EB-D937-4FF6-802A-1C37FC2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B88D-D77B-4CB8-BF30-0FE1494A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B089-BAF8-404A-AD14-FFE6AF68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40F9-3745-403B-AB9B-F7F876C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B88B-71F8-43EA-B3DA-06C2FEDF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E134-B450-44F1-B036-127CD59F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0FDD-9307-4351-9439-9AC720F6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FEB2-7621-4448-8041-B6099C0F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10CA-206D-4531-BEC5-EB04E3A0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0D97-866F-4457-A10E-F8370284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C10-32A6-4953-AC2A-68038FA2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43D3-55EA-4332-A99B-56851437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718A7-01E3-4779-8736-8179BD90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DA31-FC92-4F75-832C-0C3B895C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FDB5-D59F-4653-94FC-0707392E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C575-5139-47EE-9421-9BC3F9C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02A7-90A0-449B-8102-9520A96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4881-E473-4635-AB69-7673799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77D8-CBF6-44E8-8918-A1D36ED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AB53-317F-4253-A363-1FC83E8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E365-988E-4ACA-9352-939A37EE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D57-B66B-47D8-A785-F1DF400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5039-1540-4D06-9CC8-95F33EF5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1304-7B8F-46CA-BC70-E2D92D5A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E772-A9A0-4D34-9C57-A43A1B38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E35B-CA93-408B-9E49-5F7C69B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E87A-54C3-4A08-91E8-0558F3F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C455-68B1-47B8-8545-1BE7C9C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C77E6-B9BA-4BEC-BCAA-36012A64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E4DF-F9DF-4F35-90A3-045816F2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852E-95AE-4D44-8BF5-6A52539C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23D3C-87A8-4DDC-B39F-81E2D0B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E6E-985C-4141-A7B3-D9D4378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2F94-4FF1-4924-9EF4-5B3F0719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B6FC-C722-426C-A95E-531D1ABF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B653-9EE0-4A7B-A62B-27F84783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0849-4708-4655-93E4-5C81C1DF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0AC9-7C21-4605-9261-C0D7ECC3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EF51-B0A8-426F-B81D-0A28F8AB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0C0F-DE36-4090-8486-50A7373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D12F4-F4EB-49AB-8FC8-BEC2E47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D1F10-67DC-4393-9A64-4D38C2BA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D6BDE-E3D3-4B7B-92F9-516C134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F2D-5CFF-4461-8AB2-AE8E2F0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000E-5AA6-4EB0-AD5A-CF80369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3E36E-D0F5-42AF-B21D-B3FF149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29D5-DD6D-415E-8E45-EBB17391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6802-0D11-4BDC-8D5E-B67E4E8D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DA61C-626F-49D0-9E13-9228F5E4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7688-564F-49E1-8805-5DDB7C4B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9A766-107C-4C37-84D6-F81A8E0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4B4F9-7196-4FCD-B086-45DA661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3FB7A-0589-4803-BE05-595D605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21E0D-F534-4185-9ABF-02011DF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46C-9F25-4704-8C13-B137D7B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6243A-01A1-4273-9876-92CA6C29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81E79-F7E2-473E-B863-7185BF6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8393B-91C6-4713-A7A4-54B025C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AA44-4335-43FA-B7E9-7DAEF4F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7993-FE22-430F-AA98-C1888B8C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4B85-8EB9-431E-89E1-0418EBA2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4DE8B-9718-403E-856B-45C9E3E7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994D7-E4FA-47D5-B38F-64886326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262DC-61D5-4803-94A6-093F911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B97D1-8692-4D70-B93A-418EC11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0485-5B80-400E-89E4-9B53A7AA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3BD3-28D9-4E46-9413-F93CCE8F70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986-745D-4EB8-ACD2-EC3CEA4D2C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1DCF-4CAC-498F-9B10-90576853C0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C482-3FC0-4F91-B5EE-8A15B1E9C8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3E7-91D5-4615-9A2D-C689ACB255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E1D-9FAF-47AD-892F-B44C51F4F4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A1B7-3187-4D60-B81B-887F5E9911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C6F1-40E5-4A55-83A1-06D67A3131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F1DB-78E6-4874-ACF3-0E6BD29E76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99A-AD7B-4687-AF79-5930CFB353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3532-9376-46F2-8F0D-1331CCA6D9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4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368360" y="1197000"/>
            <a:ext cx="66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四时田园杂兴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68360" y="4217760"/>
            <a:ext cx="8424720" cy="520560"/>
          </a:xfrm>
          <a:prstGeom prst="rect">
            <a:avLst/>
          </a:prstGeom>
          <a:solidFill>
            <a:srgbClr val="92d050">
              <a:alpha val="4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时田园杂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作者是范成大，共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，田园诗是中国古代诗歌流派，以反映农民生活、描绘农村自然景物为主要内容。代表人物有陶渊明、王维、孟浩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WordArt 3" descr=""/>
          <p:cNvPicPr/>
          <p:nvPr/>
        </p:nvPicPr>
        <p:blipFill>
          <a:blip r:embed="rId2"/>
          <a:stretch/>
        </p:blipFill>
        <p:spPr>
          <a:xfrm>
            <a:off x="384120" y="146160"/>
            <a:ext cx="2206800" cy="1092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4"/>
          <p:cNvSpPr/>
          <p:nvPr/>
        </p:nvSpPr>
        <p:spPr>
          <a:xfrm>
            <a:off x="1219320" y="1905120"/>
            <a:ext cx="98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676520" y="19810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826920" y="1413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围绕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耘田绩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想象，农民们除了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耘田绩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还要干些什么活？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219320" y="3355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秧、收割、犁地、施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792000" y="4076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诗歌的前两句描写了什么情景？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008000" y="49417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村里农民劳动的繁忙景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762120" y="12794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想象范成大见此情景会对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村庄儿女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09480" y="3429000"/>
            <a:ext cx="79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苦、勤劳、各有各的本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74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61128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童孙未解供耕织，也傍桑阴学种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2010042733286111"/>
          <p:cNvPicPr/>
          <p:nvPr/>
        </p:nvPicPr>
        <p:blipFill>
          <a:blip r:embed="rId2"/>
          <a:srcRect l="0" t="0" r="48832" b="0"/>
          <a:stretch/>
        </p:blipFill>
        <p:spPr>
          <a:xfrm>
            <a:off x="4716360" y="1413000"/>
            <a:ext cx="4038840" cy="39132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809880" cy="39132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570" name="Text Box 6"/>
          <p:cNvSpPr/>
          <p:nvPr/>
        </p:nvSpPr>
        <p:spPr>
          <a:xfrm>
            <a:off x="501480" y="537372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孩子还不懂得从事耕田织布的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324000" y="6093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也在靠近桑树的阴凉处学大人的样子种瓜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WordArt 3" descr=""/>
          <p:cNvPicPr/>
          <p:nvPr/>
        </p:nvPicPr>
        <p:blipFill>
          <a:blip r:embed="rId2"/>
          <a:stretch/>
        </p:blipFill>
        <p:spPr>
          <a:xfrm>
            <a:off x="231840" y="176040"/>
            <a:ext cx="1450800" cy="10432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4"/>
          <p:cNvSpPr/>
          <p:nvPr/>
        </p:nvSpPr>
        <p:spPr>
          <a:xfrm>
            <a:off x="1219320" y="1905120"/>
            <a:ext cx="98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76520" y="19810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84360" y="119700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们喜欢这些小孩子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"/>
          <p:cNvSpPr/>
          <p:nvPr/>
        </p:nvSpPr>
        <p:spPr>
          <a:xfrm>
            <a:off x="1116000" y="1989000"/>
            <a:ext cx="1752480" cy="1067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1362240" y="2060640"/>
            <a:ext cx="16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勤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9"/>
          <p:cNvSpPr/>
          <p:nvPr/>
        </p:nvSpPr>
        <p:spPr>
          <a:xfrm>
            <a:off x="3419640" y="19177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3419640" y="20606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怕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1"/>
          <p:cNvSpPr/>
          <p:nvPr/>
        </p:nvSpPr>
        <p:spPr>
          <a:xfrm>
            <a:off x="1100160" y="32623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2"/>
          <p:cNvSpPr/>
          <p:nvPr/>
        </p:nvSpPr>
        <p:spPr>
          <a:xfrm>
            <a:off x="3476520" y="3333600"/>
            <a:ext cx="1752840" cy="1067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3"/>
          <p:cNvSpPr/>
          <p:nvPr/>
        </p:nvSpPr>
        <p:spPr>
          <a:xfrm>
            <a:off x="5651640" y="19177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4"/>
          <p:cNvSpPr/>
          <p:nvPr/>
        </p:nvSpPr>
        <p:spPr>
          <a:xfrm>
            <a:off x="5780160" y="32623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5705640" y="206064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爱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346040" y="357336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3708360" y="357336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6070680" y="3497400"/>
            <a:ext cx="16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9"/>
          <p:cNvSpPr/>
          <p:nvPr/>
        </p:nvSpPr>
        <p:spPr>
          <a:xfrm>
            <a:off x="466560" y="472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诗歌的后两句描写了什么？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0"/>
          <p:cNvSpPr/>
          <p:nvPr/>
        </p:nvSpPr>
        <p:spPr>
          <a:xfrm>
            <a:off x="611280" y="558972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的童真童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4"/>
          <p:cNvSpPr/>
          <p:nvPr/>
        </p:nvSpPr>
        <p:spPr>
          <a:xfrm>
            <a:off x="2771640" y="3068640"/>
            <a:ext cx="56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昼出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耘田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夜绩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村庄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儿女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各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童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未解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供耕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也傍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桑阴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学种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420720" y="148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四时田园杂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4572000" y="206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范成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高山流水.wma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9"/>
          <p:cNvSpPr/>
          <p:nvPr/>
        </p:nvSpPr>
        <p:spPr>
          <a:xfrm>
            <a:off x="1258920" y="558972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放声自由读诗，想象其意境，体会农民一家辛勤劳动的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179280" y="907920"/>
            <a:ext cx="8748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友人拿走自己的劳动果实，心里自然特别（   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了暴雨，邻家的墙倒了，菊秧被砸死（  ）多种，一百多棵。全家好几天没有笑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（）有（），有（）有（），有（）有（），有（）有（），既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养花的乐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作思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分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分总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755640" y="0"/>
            <a:ext cx="770400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课文思考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20105261185738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250920" y="1700280"/>
            <a:ext cx="7705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谢谢同学们认真学习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下节课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8aafa702956312457bec2c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0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96B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413710preview2"/>
          <p:cNvPicPr/>
          <p:nvPr/>
        </p:nvPicPr>
        <p:blipFill>
          <a:blip r:embed="rId4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2008113143143395_2"/>
          <p:cNvPicPr/>
          <p:nvPr/>
        </p:nvPicPr>
        <p:blipFill>
          <a:blip r:embed="rId5"/>
          <a:stretch/>
        </p:blipFill>
        <p:spPr>
          <a:xfrm>
            <a:off x="0" y="423720"/>
            <a:ext cx="9144000" cy="6434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2977424_173623019_2"/>
          <p:cNvPicPr/>
          <p:nvPr/>
        </p:nvPicPr>
        <p:blipFill>
          <a:blip r:embed="rId6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200761513438597_2"/>
          <p:cNvPicPr/>
          <p:nvPr/>
        </p:nvPicPr>
        <p:blipFill>
          <a:blip r:embed="rId7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096"/>
          <p:cNvPicPr/>
          <p:nvPr/>
        </p:nvPicPr>
        <p:blipFill>
          <a:blip r:embed="rId8"/>
          <a:stretch/>
        </p:blipFill>
        <p:spPr>
          <a:xfrm>
            <a:off x="79200" y="0"/>
            <a:ext cx="9142560" cy="6937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293039_095000515000_2"/>
          <p:cNvPicPr/>
          <p:nvPr/>
        </p:nvPicPr>
        <p:blipFill>
          <a:blip r:embed="rId9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1" descr="1915_12671950737pmM"/>
          <p:cNvPicPr/>
          <p:nvPr/>
        </p:nvPicPr>
        <p:blipFill>
          <a:blip r:embed="rId10"/>
          <a:stretch/>
        </p:blipFill>
        <p:spPr>
          <a:xfrm>
            <a:off x="0" y="1440"/>
            <a:ext cx="9220320" cy="6935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20091112234420501"/>
          <p:cNvPicPr/>
          <p:nvPr/>
        </p:nvPicPr>
        <p:blipFill>
          <a:blip r:embed="rId1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11" name="在水中央 古筝 纯音乐.mp3" descr=""/>
          <p:cNvPicPr/>
          <p:nvPr/>
        </p:nvPicPr>
        <p:blipFill>
          <a:blip r:embed="rId1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2" name="WordArt 14"/>
          <p:cNvSpPr txBox="1"/>
          <p:nvPr/>
        </p:nvSpPr>
        <p:spPr>
          <a:xfrm>
            <a:off x="1042920" y="256536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这节课我们一起来学习</a:t>
            </a:r>
            <a:endParaRPr b="1" lang="en-US" sz="54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范成大的另一首田园诗</a:t>
            </a:r>
            <a:endParaRPr b="1" lang="en-US" sz="54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6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155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1155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1155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1155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6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2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5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62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45515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 园 诗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4000" y="2666520"/>
            <a:ext cx="82803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咏田园生活的诗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以农村景物和农民、木人、渔父等人的劳动为题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格清新淳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187280" y="2205000"/>
            <a:ext cx="684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梅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金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杏子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麦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雪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菜花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日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篱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无人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惟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蜻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蛱蝶飞。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539640" y="53352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楷体"/>
              </a:rPr>
              <a:t>四时田园杂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楷体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楷体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5219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"/>
          <p:cNvSpPr/>
          <p:nvPr/>
        </p:nvSpPr>
        <p:spPr>
          <a:xfrm>
            <a:off x="4716360" y="5013360"/>
            <a:ext cx="107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2340000" y="1989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梅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金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杏子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麦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雪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菜花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059280" y="18900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  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MCj04377910000[1]"/>
          <p:cNvPicPr/>
          <p:nvPr/>
        </p:nvPicPr>
        <p:blipFill>
          <a:blip r:embed="rId1"/>
          <a:stretch/>
        </p:blipFill>
        <p:spPr>
          <a:xfrm>
            <a:off x="755640" y="5157720"/>
            <a:ext cx="1544760" cy="1357560"/>
          </a:xfrm>
          <a:prstGeom prst="rect">
            <a:avLst/>
          </a:prstGeom>
          <a:ln w="0">
            <a:noFill/>
          </a:ln>
        </p:spPr>
      </p:pic>
      <p:sp>
        <p:nvSpPr>
          <p:cNvPr id="622" name="WordArt 8"/>
          <p:cNvSpPr txBox="1"/>
          <p:nvPr/>
        </p:nvSpPr>
        <p:spPr>
          <a:xfrm>
            <a:off x="684360" y="141300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读一读，想一想。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468360" y="3284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诗句中描写了哪几种事物？它们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684360" y="3933720"/>
            <a:ext cx="7632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梅子、杏子、麦花、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梅子金黄、杏子肥、麦花雪白、菜花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484360" y="521820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是从哪些方面进行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颜色、形状、情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1"/>
          <a:srcRect l="22884" t="34247" r="24903" b="14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148360" y="1773360"/>
            <a:ext cx="374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同学们，你们都学过哪些古诗呢？谁愿意来背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今天，咱们再来共同学习一首古诗，题目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2195640" y="112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梅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金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杏子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麦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雪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菜花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468360" y="270828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梅子已经变成金黄色，杏子也越长越大了，麦花一片雪白，金灿灿的油菜花已经落去，显得稀稀疏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这两句从正面写出了南方农村景物的特点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花有果、有色有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2195640" y="112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日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篱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无人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惟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蜻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蛱蝶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468360" y="270828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夏天白天很长，篱笆墙外无人走过，四周静悄悄的，只有蜻蜓和蝴蝶在绕着篱笆飞来飞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后两句描写乡村的寂静，从侧面衬托了农村繁忙的劳动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6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68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梅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杏子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麦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雪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菜花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篱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人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蜻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蛱蝶飞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68360" y="335772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这首诗描写了农村初夏的自然景色，表达了作者热爱自然、热爱生活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在描写方法上采用了以动衬静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7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77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539640" y="53352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四时田园杂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楷体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858920" y="1916280"/>
            <a:ext cx="3816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杏子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麦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雪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菜花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篱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人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蜻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蛱蝶飞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539640" y="1916280"/>
            <a:ext cx="3816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耘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夜绩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村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童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耕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桑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种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9640" y="407664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首诗描绘了农民劳动的情景；第二首描绘了初夏农村美丽的自然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从第一首诗中我们不但体会到农村男女老少都热爱劳动，还充满了乐趣；第二首诗让我们感受到了田园之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77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77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拓展学习"/>
          <p:cNvPicPr/>
          <p:nvPr/>
        </p:nvPicPr>
        <p:blipFill>
          <a:blip r:embed="rId1"/>
          <a:stretch/>
        </p:blipFill>
        <p:spPr>
          <a:xfrm>
            <a:off x="611280" y="836640"/>
            <a:ext cx="2006640" cy="4953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684360" y="1557360"/>
            <a:ext cx="777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古代也有许多文人墨客都很喜欢亲近大自然，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欢田园生活，如陶渊明、杨万里等。老师这里再提供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首诗人们在田园生活中写下的诗让大家欣赏学习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476360" y="3357720"/>
            <a:ext cx="61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夏时田园杂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范成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黄尘行客汗如浆，少住侬家漱口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借与门前盘石坐，柳阴亭午正风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4"/>
          <p:cNvSpPr/>
          <p:nvPr/>
        </p:nvSpPr>
        <p:spPr>
          <a:xfrm>
            <a:off x="2916360" y="1700280"/>
            <a:ext cx="67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过故人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孟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故人具鸡黍，邀我至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绿树村边合，青山郭外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开轩面场圃，把酒话桑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待到重阳日，还来就菊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拓展学习"/>
          <p:cNvPicPr/>
          <p:nvPr/>
        </p:nvPicPr>
        <p:blipFill>
          <a:blip r:embed="rId1"/>
          <a:stretch/>
        </p:blipFill>
        <p:spPr>
          <a:xfrm>
            <a:off x="611280" y="836640"/>
            <a:ext cx="2006640" cy="495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27gg"/>
          <p:cNvPicPr/>
          <p:nvPr/>
        </p:nvPicPr>
        <p:blipFill>
          <a:blip r:embed="rId2"/>
          <a:stretch/>
        </p:blipFill>
        <p:spPr>
          <a:xfrm>
            <a:off x="971640" y="2349360"/>
            <a:ext cx="26636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rcRect l="22688" t="34247" r="32345" b="194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6"/>
          <p:cNvSpPr/>
          <p:nvPr/>
        </p:nvSpPr>
        <p:spPr>
          <a:xfrm>
            <a:off x="250920" y="1628640"/>
            <a:ext cx="40338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宿新市徐公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杨万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篱落疏疏一径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树头花落未成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儿童急走追黄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飞入菜花无处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6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324000" y="765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同学们，你们想一想，还有哪些描写四时的诗句呢？请按春、夏、秋、冬各写一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39640" y="2266920"/>
            <a:ext cx="8209080" cy="58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春色满园关不住，一枝红杏出墙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叶绍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接天莲叶无穷碧，映日荷花别样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月落乌啼霜满天，江枫渔火对愁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张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孤舟蓑笠翁，独钓寒江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柳宗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5-11-2-1_clip_image002"/>
          <p:cNvPicPr/>
          <p:nvPr/>
        </p:nvPicPr>
        <p:blipFill>
          <a:blip r:embed="rId1"/>
          <a:stretch/>
        </p:blipFill>
        <p:spPr>
          <a:xfrm>
            <a:off x="324000" y="692280"/>
            <a:ext cx="3927240" cy="56163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7"/>
          <p:cNvSpPr/>
          <p:nvPr/>
        </p:nvSpPr>
        <p:spPr>
          <a:xfrm>
            <a:off x="4284720" y="98100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427640" y="1773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范成大，字致能，号石湖居士，南宋诗人。他的诗作大部分反映农村生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共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首，本文选用了其中的两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059280" y="26028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生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9528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90800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70836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ī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543564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í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7380360" y="1484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39528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190800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370836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543564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7380360" y="234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395280" y="3141720"/>
            <a:ext cx="144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耘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耕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190800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蛱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370836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543564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7380360" y="3141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蝴蝶蝶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8"/>
          <p:cNvSpPr/>
          <p:nvPr/>
        </p:nvSpPr>
        <p:spPr>
          <a:xfrm>
            <a:off x="611280" y="54356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9"/>
          <p:cNvSpPr/>
          <p:nvPr/>
        </p:nvSpPr>
        <p:spPr>
          <a:xfrm rot="10800000">
            <a:off x="1258560" y="5086440"/>
            <a:ext cx="103320" cy="1511280"/>
          </a:xfrm>
          <a:custGeom>
            <a:avLst/>
            <a:gdLst>
              <a:gd name="textAreaLeft" fmla="*/ 0 w 103320"/>
              <a:gd name="textAreaRight" fmla="*/ 37440 w 1033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1476360" y="5013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dā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ɡ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当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1476360" y="6021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dà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ɡ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当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5722920" y="543564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3"/>
          <p:cNvSpPr/>
          <p:nvPr/>
        </p:nvSpPr>
        <p:spPr>
          <a:xfrm rot="10800000">
            <a:off x="6370560" y="5086440"/>
            <a:ext cx="77760" cy="1511280"/>
          </a:xfrm>
          <a:custGeom>
            <a:avLst/>
            <a:gdLst>
              <a:gd name="textAreaLeft" fmla="*/ 0 w 77760"/>
              <a:gd name="textAreaRight" fmla="*/ 28080 w 777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6588000" y="501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jiě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解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6588000" y="602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è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3059280" y="26028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题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514836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5867280" y="1773360"/>
            <a:ext cx="3276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而发的兴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2916360" y="162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四时田园杂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2700000" y="227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"/>
          <p:cNvSpPr/>
          <p:nvPr/>
        </p:nvSpPr>
        <p:spPr>
          <a:xfrm>
            <a:off x="179280" y="1773360"/>
            <a:ext cx="251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年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428472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464328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3"/>
          <p:cNvSpPr/>
          <p:nvPr/>
        </p:nvSpPr>
        <p:spPr>
          <a:xfrm>
            <a:off x="3708360" y="2781360"/>
            <a:ext cx="2087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68360" y="458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时田园杂兴指一年四季不同的田园景色而产生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2771640" y="3068640"/>
            <a:ext cx="56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昼出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耘田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夜绩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村庄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儿女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各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童孙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未解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供耕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也傍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桑阴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学种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2987640" y="14320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四时田园杂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5076720" y="2060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范成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059280" y="18900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诵诗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5508720" y="17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"/>
          <p:cNvSpPr/>
          <p:nvPr/>
        </p:nvSpPr>
        <p:spPr>
          <a:xfrm>
            <a:off x="5796000" y="1484280"/>
            <a:ext cx="863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3"/>
          <p:cNvSpPr/>
          <p:nvPr/>
        </p:nvSpPr>
        <p:spPr>
          <a:xfrm flipV="1">
            <a:off x="550872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4"/>
          <p:cNvSpPr/>
          <p:nvPr/>
        </p:nvSpPr>
        <p:spPr>
          <a:xfrm>
            <a:off x="5076720" y="2565360"/>
            <a:ext cx="1008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5"/>
          <p:cNvSpPr/>
          <p:nvPr/>
        </p:nvSpPr>
        <p:spPr>
          <a:xfrm flipV="1">
            <a:off x="4067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6"/>
          <p:cNvSpPr/>
          <p:nvPr/>
        </p:nvSpPr>
        <p:spPr>
          <a:xfrm>
            <a:off x="3564000" y="2565360"/>
            <a:ext cx="1008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y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684360" y="765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小声自读，边想边画：诗中都写了哪些人物？他们分别在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900000" y="2205000"/>
            <a:ext cx="410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昼出耘田夜绩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村庄儿女各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童孙未解供耕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也傍桑阴学种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067280" y="299736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村庄儿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耘田 织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童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学种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1476360" y="9079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词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539640" y="191628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昼 出 耘 田 夜 绩 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村 庄 儿 女 各 当 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童 孙 未 解 供 耕 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也 傍 桑 阴 学 种 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4427640" y="1773360"/>
            <a:ext cx="50403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词语理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昼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白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耘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除去田里的杂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各当家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各人有自己的活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童孙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幼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未解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不懂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供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从事，参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傍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靠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桑阴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桑树下的阴凉处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5a1ecfa70ddfff759152eeb3"/>
          <p:cNvPicPr/>
          <p:nvPr/>
        </p:nvPicPr>
        <p:blipFill>
          <a:blip r:embed="rId1"/>
          <a:stretch/>
        </p:blipFill>
        <p:spPr>
          <a:xfrm>
            <a:off x="-146160" y="-69840"/>
            <a:ext cx="9366480" cy="70041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380880" y="3333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昼出耘田夜绩麻，村庄儿女各当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2009113036188569"/>
          <p:cNvPicPr/>
          <p:nvPr/>
        </p:nvPicPr>
        <p:blipFill>
          <a:blip r:embed="rId2"/>
          <a:stretch/>
        </p:blipFill>
        <p:spPr>
          <a:xfrm>
            <a:off x="250920" y="1413000"/>
            <a:ext cx="4343400" cy="40575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52" name="Picture 5" descr="2010012137916977"/>
          <p:cNvPicPr/>
          <p:nvPr/>
        </p:nvPicPr>
        <p:blipFill>
          <a:blip r:embed="rId3"/>
          <a:stretch/>
        </p:blipFill>
        <p:spPr>
          <a:xfrm>
            <a:off x="4932360" y="1413000"/>
            <a:ext cx="4038480" cy="40575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53" name="Text Box 6"/>
          <p:cNvSpPr/>
          <p:nvPr/>
        </p:nvSpPr>
        <p:spPr>
          <a:xfrm>
            <a:off x="250920" y="5661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白天除田里的杂草，夜里把麻搓成麻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79280" y="62784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村里的青年男女都各自为家庭承担一定的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6:46:37Z</dcterms:created>
  <dc:creator/>
  <dc:description>
</dc:description>
  <cp:keywords/>
  <dc:language>en-US</dc:language>
  <cp:lastModifiedBy>微软用户</cp:lastModifiedBy>
  <dcterms:modified xsi:type="dcterms:W3CDTF">2022-01-25T04:19:15Z</dcterms:modified>
  <cp:revision>15</cp:revision>
  <dc:subject/>
  <dc:title>幻灯片 1</dc:title>
</cp:coreProperties>
</file>